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861-0444-4040-B19F-42C34888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7E1-AF04-4327-BE8F-3ADEB85F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E45F-3D1E-4488-BA9C-7BF4D23D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A99-14CF-487F-AFA2-E841B5FA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F43C-7336-4DCC-B269-DD9917B9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39CC-8A93-47D5-868A-71E684EA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73C2-B9E7-4AC2-92EB-F25FE062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EB94-3155-4621-9F70-8F260520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9E63-4DD0-46D2-8F60-9CCBFCD0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2C6C-796B-40A0-BC8A-69EAA994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516E-C974-402E-A39F-C02D7171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EA44-018F-4424-ACF3-05EC9C8A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CCCF-D80D-4E17-B433-6AE0FE1D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24B0-0675-44FF-99AC-D91A293D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712F-06CB-4AD3-BDB0-64C352DE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7D1B-2323-4114-8788-0BF03B21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39F9-D308-47B9-BC9D-71112E59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A9B-F6A6-4399-8250-C747DCA7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CBD-2208-4D62-BCC4-132AA5DB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AC0-126E-4E2D-8532-DC9DA54F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534D-5DA6-423F-BBDA-8B9CD770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286-182E-457C-8216-94544855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0673-6BFB-4B6D-8BCF-179593D4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EA9D-ABB0-4A7A-B35D-819E46C4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CDC9-497F-45F2-B20E-7A30880E846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99B8-A9D3-4FAB-84C8-E9FCA580F22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фессиональный конкурс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Лучший педагог ДОУ»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к средство развития педагогического мастерств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7760" y="41148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веева М.Г., педагог-психолог ГМЦ г.Каз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ова Н.Г., методист по дошкольному образованию ИМО ГМЦ Советского района, старший воспитатель МАОУ «Прогимназия № 2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5331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это интерактивная форма обучения и обмена опытом, объединяющая формат тренинга и конференц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(от английского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лучший в какой-либо области +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современная форма проведения обучающего тренинга-семинара для отработки практических навыков по различным методикам и технологиям с целью повышения профессионального уровня и обмена передовым опытом участников, расширения кругозора и приобщения к новейшим областям зн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539640" y="620640"/>
            <a:ext cx="842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екомендации по подготовке мастер-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Выберите ведущую педагогическую идею, которую вы хотите проиллюстрировать на мастер-классе и свяжите ее с 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Определите цели и задачи в связи с темой, которые вы хотите достигнуть на мастер-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Придумайте проблему, вопрос, парадокс, вводящие в вашу тему занятия и представляющие интерес для «воспитан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Подберите технические средства (минимально) и различные формы работы к данным целям и задач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Придумайте неожиданные предметы или открытия в обычном удивительного, которые раскрывают ведущую педагогическую иде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. Включите фантазию, придумайте интересный замысел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. Составьте подробный план за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8. Тщательно проверьте технику и работу микрофонов перед началом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9. Расставьте стулья, столы и доску так, как вам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0. Когда все готово — дайте команду организаторам, что можно нач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684360" y="476280"/>
            <a:ext cx="77752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Рекомендации по проведению мастер-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Старайтесь говорить не громко и не тихо, но внятно и с разными интонациями (не монотон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. Сами говорите только в микрофон и следите, чтобы ученики тоже давали ответы в микрофон, чтобы слышали все в зале. Контролируйте силу своего голоса и голоса учеников по звуку в колон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. Нельзя весь мастер-класс читать лек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. Не превращайте мастер-класс только в игру. Одна форма работы на мастер-классе неприемл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5. Проявляйте специфику предмета (иногда к концу урока зрителям и жюри не понятен предмет преподава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6. Это урок не для профессионалов данного направления. Задача — прояснить сложное, затронуть общечеловеческие ценности, проблемы, которые волнуют все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7. Используйте новые информационные технологии только если они органично входят в вашу идею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8. Здоровьесбережение должно стать не надуманным, а органичным элементом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9. Не добивайтесь долго того ответа, который вам нужен. А если получили его раньше — не продолжайте двигаться в эту стор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0. Старайтесь показывать не только себя, но и уче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1. Не бойтесь задавать трудные вопр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2. Проведите в конце краткий анализ занятия с «ученикам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838080" y="990720"/>
            <a:ext cx="73580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крытый микроф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обственной позиции по пробл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у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и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84360" y="476280"/>
            <a:ext cx="7848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- это я. Такого, как я, никогда не было и не будет. Есть люди, чем-то похожие на меня, но в точности такого, как я, нет. Мне принадлежит мое тело и все, что оно делает. Мне принадлежит мой голос: тихий или громкий, нежный или резкий. Мне принадлежат мои глаза и все образы, которые они могут увидеть. Это все принадлежит мне, потому что я один выбрал это, это истинно. Это достаточное основание для того, чтобы принять и полюбить себя, заинтересоваться собой. Теперь, когда я принял себя, я могу набраться терпения и мужества, чтобы узнать себя лучше и глубже. Конечно, во мне есть нечто, что вызывает мое недоумение. Но теперь, когда я не боюсь посмотреть в себя, я могу сделать так, чтобы все во мне способствовало достижению моих целей, чтобы полезного и доброго во мне становилось больше и больше. Я могу видеть, слышать, думать, действовать. Значит, во мне есть все, чтобы жить. Чтобы вносить гармонию в мир людей и вещей вокруг меня. Я – это я, и Я – это здоров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85880" y="428760"/>
            <a:ext cx="7858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«Презентация опыта работы, методический семина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Регламент – 15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актическая значимость и новизна представлен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бщая  и профессиональная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ультура публичного вы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533520" y="533520"/>
            <a:ext cx="82152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е мероприятие с деть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-30 минут (от возрастной группы воспитанни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заинтересовать группу детей содержанием и видо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рганизации и выбора содержания открытого просмо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держивать интерес детей в течение меро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отрудничества детей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сть стиля взаимодействия с дет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активности и инициативности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1600" y="320400"/>
            <a:ext cx="82152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Garamond"/>
              </a:rPr>
              <a:t>Различия процесса обучения в детском саду, организованного в виде учебной деятельности и через организацию детских видов деятельности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990720"/>
          <a:ext cx="8763120" cy="518796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виде учебной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организацию детских видов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- объект формирующих педагогических воз­действий взрослого человека. Взрослый - главный. Он руководит и управляет ребенко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и взрослый - оба субъекты взаимодействия. Они равны по значимости. Каждый в равной степени це­нен. Хотя взрослый, конечно, и старше, и опытне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взрослого выше, чем активность ребенка, в том числе и речевая (взрослый "много" говорит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ребенка по крайней мере не меньше, чем активность взросло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учебная. Главный результат учебной деятельности - решение какой-либо учебной задачи, поставленной перед детьми взрослым. Цель - знания, умения и навыки детей. Актив­ность детей нужна для достижения этой цел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это так называемые детские виды деятельности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Ребенок должен быть активен. Но при этом важно, что­бы его активность не была беспорядочной, хаотичной, а оформлялась во вполне определенные, присущие до­школьнику виды деятельности... общение, игра, пред­метная деятельность, конструирование, изобразитель­ная деятельность, элементарная трудовая деятельность"¹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Сам процесс их выполнения и итоги прежде всего ра­дуют самих детей и окружающих взрослых, не имея при этом каких-либо жестких норм и правил"²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- подлинная активность (деятельность) детей, а освоение знаний, умений и навыков - побочный эффект этой активност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380880"/>
          <a:ext cx="8229600" cy="5273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учеб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совместная деятельность взрослого и реб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ая форма работы с детьми - заня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ые формы работы с детьми - рассматривание, наблюдение, беседы, разговоры, экспериментирование и исследования, коллекционирование, чтение, реализация проектов, мастерская и т. д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пря­мые методы обучения (при частичном использовании опосредованн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опосредованные методы обучения (при частичном использовании прям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 на занятии, как правило, не связаны с интересом детей к самой учебной деятельности. "Удерживает" детей на занятии авторитет взрослого. Именно поэтому педагогам зачастую приходится "украшать" занятие наглядностью, игровыми приемами, персонажами, чтобы облечь учебный процесс в привлекательную для дошкольников форму. Но ведь "подлинная цель взрослого - вовсе не поиграть, а использовать игрушку для мотивации освоения непривлекательных для детей предметных знаний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, осуществляемого как организация детских видов деятельности, связаны в первую очередь с интересом детей к этим видам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57200" y="380880"/>
          <a:ext cx="8229600" cy="5211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6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Все дети обязательно должны присутствовать на заняти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Допускаются так называемые свободные "вход" и "вы­ход" детей, что вовсе не предполагает провозглашения анархии в детском саду. Уважая ребенка, его состояние, настроение, предпочтения и интересы, взрослый обязан предоставить ему возможность выбора - участвовать или не участвовать вместе с другими детьми в совместном деле, но при этом вправе потребовать такого же уважения и к участникам этого совместного дел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в значительной степени регламентирован. Главное для взрослого - двигаться по заранее намеченному плану, программе. Педагог часто опирается на подготовленный конспект занятия, в ко­тором расписаны реплики и вопросы взрослого, ответы дет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предполагает внесение изменений (коррективов) в планы, программы с учетом потребностей и интересов детей. Конспекты могут ис­пользоваться частично, для заимствования фактического материала (например, интересных сведений о композиторах, писателях, художниках и их произведениях), отдельных методов и приемов и др., но не как "готовый образец" образовательного процесс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838080" y="500040"/>
            <a:ext cx="76201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шение психолого-педагогических ситуац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формулировать пробл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возрастных и индивидуальных особенностей участников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ргументировать предлагаемые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и необходимости адекватно изменять стратегию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571680" y="500040"/>
            <a:ext cx="74293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тер-клас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ламент 2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206800" y="3139920"/>
            <a:ext cx="6602400" cy="322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066320"/>
            <a:ext cx="8229600" cy="11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ЗАРУБА Артур Викторович"/>
          <p:cNvPicPr/>
          <p:nvPr/>
        </p:nvPicPr>
        <p:blipFill>
          <a:blip r:embed="rId2"/>
          <a:stretch/>
        </p:blipFill>
        <p:spPr>
          <a:xfrm>
            <a:off x="457200" y="2819520"/>
            <a:ext cx="22860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лонова Светлана Ринатовна</cp:lastModifiedBy>
  <dcterms:modified xsi:type="dcterms:W3CDTF">2012-12-27T06:08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